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108-98AC-4979-8313-F5017A18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84DD-75C9-447E-81D0-E30B3FE6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810-2444-4FF6-B54F-74559B22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FA2-499C-4B98-A554-E6DD5A1F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51C-DDC7-47E0-AADA-0C528098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DB8-6E79-4392-A90A-958F72F5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E1C4-56A7-4191-8B4C-1E835FD1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EA7C-4C23-49CB-AB47-7FED44EA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EBB-A18A-480F-932B-8585623D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6A90-343C-42CC-8D4D-B1EC9B9A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8D1-4068-4AE8-8B06-03FD4A10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9483-543E-48A2-9E11-EF12A936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5F230FB0-80DA-44E2-9B7F-4B7148EB141E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jpe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NA1 Update 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8 January Board Meeet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. Charles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,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hanges to DOW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happen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suc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ment of money between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of personnel (specifically, in the management 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delive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should be discussed from partners up through activity leader.  Activity leader will work with the Project Manager to integrate changes into the DOW contract as a formal change in the contract with the 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D07E-81F7-436D-A71F-C623F2C367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Leaving the network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estions/Answ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Charles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(J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yun at jive dot 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expres-eu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ote: only one “s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ive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6A41-CF70-414F-8A5A-C14C8AA0CC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86200" y="571500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9480" y="22575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523880" y="229716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66880" y="238932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809880" y="2362320"/>
            <a:ext cx="836640" cy="404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4876920" y="2421000"/>
            <a:ext cx="888840" cy="28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6019920" y="241308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7802640" y="2133720"/>
            <a:ext cx="731880" cy="861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685800" y="3262320"/>
            <a:ext cx="849240" cy="587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1752480" y="3346560"/>
            <a:ext cx="2246400" cy="590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4338720" y="309888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tkk-ctv-eng" descr=""/>
          <p:cNvPicPr/>
          <p:nvPr/>
        </p:nvPicPr>
        <p:blipFill>
          <a:blip r:embed="rId12"/>
          <a:stretch/>
        </p:blipFill>
        <p:spPr>
          <a:xfrm>
            <a:off x="5257800" y="327168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7767720" y="32479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587520" y="431784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>
            <a:off x="1882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6"/>
          <a:stretch/>
        </p:blipFill>
        <p:spPr>
          <a:xfrm>
            <a:off x="3025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7"/>
          <a:stretch/>
        </p:blipFill>
        <p:spPr>
          <a:xfrm>
            <a:off x="4241880" y="438948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8"/>
          <a:stretch/>
        </p:blipFill>
        <p:spPr>
          <a:xfrm>
            <a:off x="5235480" y="454644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9"/>
          <a:stretch/>
        </p:blipFill>
        <p:spPr>
          <a:xfrm>
            <a:off x="6835680" y="4611600"/>
            <a:ext cx="1698840" cy="327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0"/>
          <a:stretch/>
        </p:blipFill>
        <p:spPr>
          <a:xfrm>
            <a:off x="4038480" y="1219320"/>
            <a:ext cx="1067040" cy="711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rtner Logo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E0D6-1CAD-4170-A91C-4B8DA94ADA3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tiviti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crip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Coordinat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ib Jan van Langevelde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of I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 Charles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N-NREN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hevers, 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LBI Science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onway, Chal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outrea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ristine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 Servi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ad Szomoru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provision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cisco Colomer, CNIG-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R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R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 Charles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789-6BEA-470C-8C81-73918FDA8C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 in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 Certificates and Project F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Annual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for yea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6758-17F5-46FE-B8BD-A6D35EE18E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Year in Review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- Preparation for Annual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il- Annual Review, Bru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- Board Meeting, Helsin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- First feedback from EC on annu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- Feedback on corrections to selected financial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ober- Continued dialog regarding modified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uary- Board Meeting, Utr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- Second Annual Review, Bru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Project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D2A2-945A-4D93-ACF9-576FFDFDD6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udit Certificates- Year 1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s were necessary for the firs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review, several of the financial documents were asked to be cor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fell victim to some simple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the stamp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s in the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ere some more significant changes requ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s and negotiations too much longer than expect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Audit Certificates, Project Fu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9C93-E0CF-481F-B820-0CFA99560A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udit Certificates- Year 2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s for second year will be requested from largest (spending) partn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POR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cumulative audit is still required at the end of the project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tner.  Everyone eventually will submit financial information for Year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Audit Certificates, Project Fu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59F-1110-49B6-BC2A-9DFAD530B3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udit Certificat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TART NO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EB4-3B36-44A5-A591-B549CBB22C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5369040" y="1143000"/>
            <a:ext cx="3317760" cy="4724280"/>
            <a:chOff x="5369040" y="1143000"/>
            <a:chExt cx="3317760" cy="472428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7896240" y="1143000"/>
              <a:ext cx="790560" cy="47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5369040" y="1143000"/>
              <a:ext cx="2182680" cy="472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eliverabl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ive.nl/dokuwiki/doku.php/expres:management:deliverabl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, there are lots of deliverables; it is a big list and there are many items on there that are not easy to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r institution’s name is associated with a deliverable, ask the activity leader for additional information or gu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running a ~3 months “behind”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is because I am late updating th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is because people are late telling 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is due to the slow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2D9-6129-4F5B-B482-B81160B39F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istribution- Full Breakdow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143000"/>
          <a:ext cx="8229600" cy="4721400"/>
        </p:xfrm>
        <a:graphic>
          <a:graphicData uri="http://schemas.openxmlformats.org/drawingml/2006/table">
            <a:tbl>
              <a:tblPr/>
              <a:tblGrid>
                <a:gridCol w="857160"/>
                <a:gridCol w="914400"/>
                <a:gridCol w="914400"/>
                <a:gridCol w="914400"/>
                <a:gridCol w="916200"/>
                <a:gridCol w="914400"/>
                <a:gridCol w="914400"/>
                <a:gridCol w="914400"/>
                <a:gridCol w="969840"/>
              </a:tblGrid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ort 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A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A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RA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6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4,4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,3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0,6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88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43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052,0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1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,6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7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,0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,8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3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1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3,9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3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3,9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18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,7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7,593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0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3,8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,3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R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,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3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7,1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9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45,3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K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6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5,6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ORNE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6,3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M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,6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4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1,7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7,1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6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1,3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7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6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,6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7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,6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1,3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6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7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eA/VIRA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7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7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2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6,252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37,4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0,419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7,3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11,3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69,3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6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47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orward View: Next 18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089-2098-49D7-876A-1A55886EACB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istribution- “issues”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still not received second period f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hould be “so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ill be some shifting of funds between partners, primarily moving small sums between institutes that are not able to spend (for a variety of reasons) to other institutes who are in need of mor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are in either position, let us know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6F3-3267-4F79-9969-D1CB484560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cyun</cp:lastModifiedBy>
  <dcterms:modified xsi:type="dcterms:W3CDTF">2008-01-29T13:36:46Z</dcterms:modified>
  <cp:revision>38</cp:revision>
  <dc:subject/>
  <dc:title>Slide 1</dc:title>
</cp:coreProperties>
</file>